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9C7-8B85-46CF-BFCF-BE108900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FAA-0A74-4FD9-8077-9FB0A368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848-8198-4DC3-89F8-07007B95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A81-7134-4DE2-AC9C-7407025A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8ADA-946C-4D76-BC37-F261BCBB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548-872C-4B11-BB54-E608204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E264-6F39-4EAE-8426-FD2A217B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4757-9967-436E-9408-1C40A0C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C51A-E6A5-48F7-9B11-B1BBFE33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DB2-ACBD-4DB2-B2A8-522B17D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637-5F8E-4F57-AA06-ADBA9CF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66B-47EE-4E2C-A9AA-073A14E1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F2DE-4112-4E85-A08D-ECD44715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9F4B-0140-4C86-BC94-4440C8B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900-BA57-4EF4-821E-74714010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6A10-8F75-42C3-B1A8-28FD94A8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0366-0744-493C-9491-94D7771B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7FA-C140-4B8C-845B-FF646BA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AAA-E208-4E30-967F-4B30F8EE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E18-BE87-4E47-9EF9-153C63E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83D-4A43-48E2-80E3-8BF76FB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093-F041-4E9C-B9E6-09B77F8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F77-4CF3-418F-A412-0142093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E99-D000-4684-939B-C01663E9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Lucida Console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22.01.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Bufferlo- Spez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7F0-4C0F-4D1F-BB89-2402EB893014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01BA-FF34-4622-9CA3-89D8E06681DE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Consol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Consol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003366"/>
                </a:solidFill>
                <a:latin typeface="Lucida Console"/>
              </a:rPr>
              <a:t>Bufferlo</a:t>
            </a:r>
            <a:endParaRPr b="1" lang="en-US" sz="7200" spc="-1" strike="noStrike">
              <a:solidFill>
                <a:srgbClr val="003366"/>
              </a:solidFill>
              <a:latin typeface="Lucida Conso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Spezifika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am 22.01.200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6666"/>
                </a:solidFill>
                <a:latin typeface="Lucida Console"/>
              </a:rPr>
              <a:t>37 Präpositionen des Deutschen</a:t>
            </a:r>
            <a:endParaRPr b="1" lang="en-US" sz="34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n, a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n...entlang, auf 1 (+Dat), auf 2 (+ Akk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auf...zu, aus..heraus, außerhalb, bei, durch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entlang, gegenüber, herauf, herunter, hinauf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hinunter, hinter, im Zentrum, in 1 (+Akk.), in 2(+Dat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in der Mitte , innerhalb, links, nahe, neben, nördlich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oberhalb, östlich, rechts, südlich, über 1 (+ Akk), über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(+ Dat), um...herum, unter, unterhalb, vor, westlich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zwisch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Modifikator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Oben, unten, vorne, hinten, schrä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räpositionen, die auch als  Modifikator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fungieren könn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links, rec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inteilung der Präposition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... erfolgt nach ihrer Zuordnung zu d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lgorithmen, mit denen die Buffer berech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we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s müssen also die entstehenden Buffer nac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Lage, Größe, Form, etc. unterschieden we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Formen der Buffer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Fläche(n) an einem Objekt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neben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Fläche zwischen zwei Objekten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zwischen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Ringfläche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bei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Fläche innerhalb von Objektgrenzen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Linie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auf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ombinationen: z.B. 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durch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ADA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inteilung der Präposition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... erfolgt also nicht nach den in der Literat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üblichen Kategorien, da der Großteil dies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formationen für die Einteilung nach Algorith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ninteressant si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rdings werden Informationen wie intrinsis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s. deiktisch, statisch vs. dynamisch a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arameter der Algorithmen verwend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rgebnisse der Einteilung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o Bufferform ein Algorithmus, der sich durch Parameter modifizieren lässt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ammlung aller Parameter, die für das Berechnen individueller Präpositionen benötigt wer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Beispiel:</a:t>
            </a: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	</a:t>
            </a: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Kategorie A</a:t>
            </a:r>
            <a:br>
              <a:rPr sz="3600"/>
            </a:br>
            <a:r>
              <a:rPr b="0" lang="de-DE" sz="2800" spc="-1" strike="noStrike">
                <a:solidFill>
                  <a:srgbClr val="006666"/>
                </a:solidFill>
                <a:latin typeface="Lucida Console"/>
              </a:rPr>
              <a:t>(Fläche(n) an einem Objekt)</a:t>
            </a:r>
            <a:endParaRPr b="1" lang="en-US" sz="28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(an...) entlang, hinter, links, rechts, nebe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nördlich, südlich, östlich, westlich, v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-&gt; Unterschiedliche Parame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Lucida Console"/>
              </a:rPr>
              <a:t>Parameter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Objektseite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öße des Betrach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öße und Form der Fläche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rt der Schraff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Objektseite: Bounding Box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de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Kleinstmögliches Rechteck, das das Objek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mschließt, 4 durchnummerierte Seit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ehrere relevante Bounding Boxe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efault-Box aus ungerichtet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s intrinsisch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s geographisch-global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s deiktisch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6666"/>
                </a:solidFill>
                <a:latin typeface="Lucida Console"/>
              </a:rPr>
              <a:t>Annahmen zu erzeugten Flächen</a:t>
            </a:r>
            <a:endParaRPr b="1" lang="en-US" sz="34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ußenlinie der erzeugten Fläche ist Abbild von Objektli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uffergröße orientiert sich prozentual an der entsprechenden Seitengröße der Bounding B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Bufferlo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tudienprojekt 2001/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Lehrstuhl für Computerlinguisti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uprecht-Karls-Universität Heidelbe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Studienprojekt-Team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tienne Verleih, Florence Feierei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uzanne Heiob, Thorsten Reiche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Größe und Form der Fläche(n)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Modifizierung mit folgenden Parameter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bstand der Bounding Box zu Objektpunk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bstand der inneren Linie vom Obje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bstand der äußeren Linie vom Obje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änder: erster Wink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änder: zweiter Wink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6666"/>
                </a:solidFill>
                <a:latin typeface="Lucida Console"/>
              </a:rPr>
              <a:t>Ausgabe der Fläche: Schraffur</a:t>
            </a:r>
            <a:endParaRPr b="1" lang="en-US" sz="35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ngab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es Geltungsbereic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esamtgeltungsbere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tensitä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er Semantik der Flä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tatisch vs. dynamis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evtl. Kontakt zum Obje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TB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Lucida Console"/>
              </a:rPr>
              <a:t>Parameter für neb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Kategorie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ounding Box aus intrinsischer oder deiktischer Sicht (anhängig von Existenz eines Betrach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lächen auf Seite 2 &amp; 4 der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bstand der inneren Linie zum Objekt: 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bstand der äußeren Linie zum Objekt: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änder: erster Winkel: 90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änder: zweiter Winkel: 130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chraff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takt zum Objekt mögli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tatis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Lucida Console"/>
              </a:rPr>
              <a:t>Programmstruktur oberste Ebene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533840"/>
            <a:ext cx="213336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ffer-berechn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600200"/>
            <a:ext cx="129528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640" y="3124080"/>
            <a:ext cx="1800360" cy="13338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phische Ein-/ Aus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96960" y="1879200"/>
            <a:ext cx="19065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10120" y="1879560"/>
            <a:ext cx="12384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3480" y="2425680"/>
            <a:ext cx="144468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85640" y="2844720"/>
            <a:ext cx="93348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970440"/>
            <a:ext cx="373392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11680" y="5241960"/>
            <a:ext cx="13082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596960" y="4457880"/>
            <a:ext cx="190656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19480" y="2425680"/>
            <a:ext cx="1905120" cy="838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5065560"/>
            <a:ext cx="1676520" cy="685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hrer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57640" y="1600200"/>
            <a:ext cx="1828800" cy="6094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string (PP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19480" y="4103640"/>
            <a:ext cx="1942920" cy="8380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ingabestring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arser parst Präpositionalphra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e PP besteht im Allgemeinen au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Modifikatoren + Präposition + Artikel + Obje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Bufferlo- Einschränkung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Unser Parser akzeptiert bis zu 2 Modifikato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z.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&lt;&lt;vorne links an der Kirche&gt;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&lt;&lt;Hinten am Karlsplatz&gt;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&lt;&lt;In der Uni&gt;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Lucida Console"/>
              </a:rPr>
              <a:t>Programmstruktur Parser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166680" y="2816280"/>
            <a:ext cx="2576520" cy="12193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ereinga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P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90840" y="1066680"/>
            <a:ext cx="2362320" cy="76212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äpositionslexik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19880" y="1066680"/>
            <a:ext cx="2057400" cy="76212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Wör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6720" y="1066680"/>
            <a:ext cx="2057400" cy="76212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datenban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892600"/>
            <a:ext cx="1676520" cy="10666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4720" y="5181480"/>
            <a:ext cx="1905120" cy="90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bis 2 Objek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4160" y="5181480"/>
            <a:ext cx="1800360" cy="90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Prä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70120" y="5091120"/>
            <a:ext cx="189720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öchste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Modifikator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15080" y="1828800"/>
            <a:ext cx="2095200" cy="106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828800"/>
            <a:ext cx="0" cy="106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1828800"/>
            <a:ext cx="1873080" cy="106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959280"/>
            <a:ext cx="2666880" cy="122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959280"/>
            <a:ext cx="0" cy="11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8800" y="3959280"/>
            <a:ext cx="2743200" cy="122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4257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Lucida Console"/>
              </a:rPr>
              <a:t>Implementierung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mit Pyth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GUI mit Tki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Lucida Console"/>
              </a:rPr>
              <a:t>Ausblick...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...wenn die Zeit reic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ol zum Zeichnen von geometrischen Objekten und Aufnahme in die Objektdatenba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ol zur Aufnahme einzelner neuer Präpositionen (auch andere Sprach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Lokalisationskompon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nde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886200"/>
            <a:ext cx="60962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0" spc="-1" strike="noStrike">
                <a:solidFill>
                  <a:srgbClr val="003366"/>
                </a:solidFill>
                <a:latin typeface="Monotype Corsiva"/>
              </a:rPr>
              <a:t>To be continued...</a:t>
            </a:r>
            <a:endParaRPr b="0" lang="en-US" sz="7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66"/>
                </a:solidFill>
                <a:latin typeface="Lucida Console"/>
              </a:rPr>
              <a:t>Bufferlo-</a:t>
            </a:r>
            <a:br>
              <a:rPr sz="4000"/>
            </a:br>
            <a:r>
              <a:rPr b="0" lang="de-DE" sz="2400" spc="-1" strike="noStrike">
                <a:solidFill>
                  <a:srgbClr val="006666"/>
                </a:solidFill>
                <a:latin typeface="Lucida Console"/>
              </a:rPr>
              <a:t>Tool zur Beschreibung von Raumausdrücken</a:t>
            </a:r>
            <a:endParaRPr b="1" lang="en-US" sz="24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usgangside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aumausdrücke erzeugen Fläc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rogramm soll Flächen an geometrisch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Objekten erzeugen, die diese Raumausdrück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epräsentier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Grober Programmablauf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gabe einer Präpositionalphra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naly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erechnung eines Bu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Graphische Ausga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Lucida Console"/>
              </a:rPr>
              <a:t>Programmstruktur oberste Ebene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533840"/>
            <a:ext cx="213336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ffer-berechn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1600200"/>
            <a:ext cx="129528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640" y="3124080"/>
            <a:ext cx="1800360" cy="13338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phische Ein-/ Aus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96960" y="1879200"/>
            <a:ext cx="19065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1879560"/>
            <a:ext cx="12384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03480" y="2425680"/>
            <a:ext cx="144468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85640" y="2844720"/>
            <a:ext cx="93348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3970440"/>
            <a:ext cx="373392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11680" y="5241960"/>
            <a:ext cx="13082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596960" y="4457880"/>
            <a:ext cx="190656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19480" y="2425680"/>
            <a:ext cx="1905120" cy="838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0" y="5065560"/>
            <a:ext cx="1676520" cy="685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hrer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7640" y="1600200"/>
            <a:ext cx="1828800" cy="6094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str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19480" y="4103640"/>
            <a:ext cx="1942920" cy="8380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Anwendbarkeit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eil der Lokalisationskomponente fü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avigationssyste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uristenleitsyst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prachgesteuerte Roboter/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ituations- oder Bildbeschreib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litärische Zwecke, Spionage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Kart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ammlung von geometrischen Objekten + Metada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etadaten beinhalte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ame, I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erspek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enz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Arial"/>
              </a:rPr>
              <a:t>Format: 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Geometrische Objekte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Name, I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emantische Merkm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1 Poly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Verweis auf beinhaltete Objek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vtl. gericht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8:46:34Z</dcterms:created>
  <dc:creator>f.feiereisen</dc:creator>
  <dc:description/>
  <dc:language>en-US</dc:language>
  <cp:lastModifiedBy>Thorsten Reichelt</cp:lastModifiedBy>
  <dcterms:modified xsi:type="dcterms:W3CDTF">2003-01-14T22:44:20Z</dcterms:modified>
  <cp:revision>11</cp:revision>
  <dc:subject/>
  <dc:title>Spezifikation</dc:title>
</cp:coreProperties>
</file>