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vantGarde Md BT"/>
              </a:rPr>
              <a:t>Click to move the slide</a:t>
            </a:r>
            <a:endParaRPr b="0" lang="en-US" sz="3600" spc="-1" strike="noStrike">
              <a:solidFill>
                <a:srgbClr val="660066"/>
              </a:solidFill>
              <a:latin typeface="AvantGarde Md B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9EF20-F6B1-48CE-AFEC-4F722D9ACF9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ynamische Präps: kein Konzept, nur Ansätze: erzeugen Flächen? erzeugen Vektorenscharen? Darstellung in der GUI? </a:t>
            </a:r>
            <a:r>
              <a:rPr b="0" lang="de-DE" sz="1400" spc="-1" strike="noStrike">
                <a:solidFill>
                  <a:srgbClr val="ff4c1b"/>
                </a:solidFill>
                <a:latin typeface="Arial"/>
              </a:rPr>
              <a:t>Zeitdimensio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DAC1-5B64-4205-9B17-4069B1FAA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AvantGarde Md B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920" y="2349360"/>
            <a:ext cx="7693200" cy="17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26920" y="4295160"/>
            <a:ext cx="7693200" cy="17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489A-ECCD-4898-8409-585013E97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AvantGarde Md B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26920" y="2349360"/>
            <a:ext cx="3754080" cy="17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68920" y="2349360"/>
            <a:ext cx="3754080" cy="17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26920" y="4295160"/>
            <a:ext cx="3754080" cy="17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68920" y="4295160"/>
            <a:ext cx="3754080" cy="17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22B8-30B4-4BF1-9F82-0BC1AD5CD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AvantGarde Md B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26920" y="2349360"/>
            <a:ext cx="2476800" cy="17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27920" y="2349360"/>
            <a:ext cx="2476800" cy="17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8920" y="2349360"/>
            <a:ext cx="2476800" cy="17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26920" y="4295160"/>
            <a:ext cx="2476800" cy="17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27920" y="4295160"/>
            <a:ext cx="2476800" cy="17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8920" y="4295160"/>
            <a:ext cx="2476800" cy="17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9046-8A0F-4D67-8C63-E53FF76A0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C7182-34E3-49DF-8402-FB3F788A1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AvantGarde Md B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6F09D-8F24-405E-8C05-3C6A3127E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AvantGarde Md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497D7-B66B-485B-A00D-93B76140F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AvantGarde Md B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26920" y="2349360"/>
            <a:ext cx="375408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68920" y="2349360"/>
            <a:ext cx="375408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41940-F7A5-4270-90E8-4071C4F4B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AvantGarde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353A0-2235-4FB3-90C8-8537C7096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27640" y="83700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AFC29-3904-4FB5-8292-ADD87A43F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AvantGarde Md B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6920" y="2349360"/>
            <a:ext cx="3754080" cy="17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68920" y="2349360"/>
            <a:ext cx="375408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6920" y="4295160"/>
            <a:ext cx="3754080" cy="17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7E19A-B55C-442C-9D10-CD5634EA8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AvantGarde Md B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592D-845C-4599-A994-3DBD14339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AvantGarde Md B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6920" y="2349360"/>
            <a:ext cx="375408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68920" y="2349360"/>
            <a:ext cx="3754080" cy="17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68920" y="4295160"/>
            <a:ext cx="3754080" cy="17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527BE-6C85-4227-BE30-2A32EF27E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AvantGarde Md B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26920" y="2349360"/>
            <a:ext cx="3754080" cy="17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68920" y="2349360"/>
            <a:ext cx="3754080" cy="17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26920" y="4295160"/>
            <a:ext cx="7693200" cy="17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D0453-7905-499D-8703-77C18EF29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AvantGarde Md B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6920" y="2349360"/>
            <a:ext cx="7693200" cy="17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26920" y="4295160"/>
            <a:ext cx="7693200" cy="17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4164C-A81A-4CBD-A195-E405A9D9F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AvantGarde Md B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26920" y="2349360"/>
            <a:ext cx="3754080" cy="17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68920" y="2349360"/>
            <a:ext cx="3754080" cy="17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26920" y="4295160"/>
            <a:ext cx="3754080" cy="17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68920" y="4295160"/>
            <a:ext cx="3754080" cy="17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DAFE8-8E0E-435D-BE2F-0690299C0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AvantGarde Md B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6920" y="2349360"/>
            <a:ext cx="2476800" cy="17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27920" y="2349360"/>
            <a:ext cx="2476800" cy="17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8920" y="2349360"/>
            <a:ext cx="2476800" cy="17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26920" y="4295160"/>
            <a:ext cx="2476800" cy="17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27920" y="4295160"/>
            <a:ext cx="2476800" cy="17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8920" y="4295160"/>
            <a:ext cx="2476800" cy="17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43471-0E35-4E71-834D-748337857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AvantGarde Md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350B-4EE4-4498-9E37-5005FFE0E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AvantGarde Md B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6920" y="2349360"/>
            <a:ext cx="375408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68920" y="2349360"/>
            <a:ext cx="375408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4484-A189-4D5F-B776-BB3F2CCD1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AvantGarde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EBC5-FD90-4B6D-B2F2-778D761A6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27640" y="83700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AD1E-7608-4B09-8AE9-B91F93F39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AvantGarde Md B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6920" y="2349360"/>
            <a:ext cx="3754080" cy="17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68920" y="2349360"/>
            <a:ext cx="375408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6920" y="4295160"/>
            <a:ext cx="3754080" cy="17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18BE-3D59-4449-9A22-AD7D6A687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AvantGarde Md B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6920" y="2349360"/>
            <a:ext cx="375408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68920" y="2349360"/>
            <a:ext cx="3754080" cy="17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68920" y="4295160"/>
            <a:ext cx="3754080" cy="17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7089-C215-4632-B62A-928621C2B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AvantGarde Md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26920" y="2349360"/>
            <a:ext cx="3754080" cy="17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68920" y="2349360"/>
            <a:ext cx="3754080" cy="17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26920" y="4295160"/>
            <a:ext cx="7693200" cy="17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1F5E-1CC0-4E71-8D9E-868193001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84ab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84ab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vantGarde Md BT"/>
              </a:rPr>
              <a:t>Click to edit the title text format</a:t>
            </a:r>
            <a:endParaRPr b="0" lang="en-US" sz="3600" spc="-1" strike="noStrike">
              <a:solidFill>
                <a:srgbClr val="660066"/>
              </a:solidFill>
              <a:latin typeface="AvantGarde Md B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CAB99-A4EF-48B8-A17E-8EFEFF41E198}" type="datetime">
              <a:rPr b="0" lang="de-DE" sz="1400" spc="-1" strike="noStrike">
                <a:solidFill>
                  <a:srgbClr val="003366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30397-5D07-466C-9399-C925CD9FCEA9}" type="slidenum">
              <a:rPr b="1" lang="de-DE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84ab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BA955-43DA-4D1E-8CF1-04219384E60C}" type="datetime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AD8BF-1E69-4272-AE3C-D5211566B9ED}" type="slidenum">
              <a:rPr b="1" lang="de-DE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vantGarde Md BT"/>
              </a:rPr>
              <a:t>Click to edit the title text format</a:t>
            </a:r>
            <a:endParaRPr b="0" lang="en-US" sz="3600" spc="-1" strike="noStrike">
              <a:solidFill>
                <a:srgbClr val="660066"/>
              </a:solidFill>
              <a:latin typeface="AvantGarde Md BT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200" spc="-1" strike="noStrike">
                <a:solidFill>
                  <a:srgbClr val="660066"/>
                </a:solidFill>
                <a:latin typeface="AvantGarde Md BT"/>
              </a:rPr>
              <a:t>Bufferlo</a:t>
            </a:r>
            <a:endParaRPr b="0" lang="en-US" sz="7200" spc="-1" strike="noStrike">
              <a:solidFill>
                <a:srgbClr val="660066"/>
              </a:solidFill>
              <a:latin typeface="AvantGarde Md B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932360" y="3573000"/>
            <a:ext cx="4013280" cy="18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tudienprojekt 02/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660066"/>
                </a:solidFill>
                <a:latin typeface="AvantGarde Md BT"/>
              </a:rPr>
              <a:t>Wie funktioniert`s?</a:t>
            </a:r>
            <a:endParaRPr b="0" lang="en-US" sz="3600" spc="-1" strike="noStrike">
              <a:solidFill>
                <a:srgbClr val="660066"/>
              </a:solidFill>
              <a:latin typeface="AvantGarde Md BT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nhand von IDs werden die Daten der Präposition und des Objekts / der Objekte gela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Je nach Typ der Präposition wird ein Algorithmus zur Berechnung des Buffers ausgewäh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er Buffer wird berechnet und zurückgegeb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fferl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AB84-AE4C-4753-BE2B-E6EE816B14F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AEAD8B-F4EC-4F70-A453-EE4C515E9A6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660066"/>
                </a:solidFill>
                <a:latin typeface="AvantGarde Md BT"/>
              </a:rPr>
              <a:t>Typ-A-Algorithmus</a:t>
            </a:r>
            <a:endParaRPr b="0" lang="en-US" sz="3600" spc="-1" strike="noStrike">
              <a:solidFill>
                <a:srgbClr val="660066"/>
              </a:solidFill>
              <a:latin typeface="AvantGarde Md BT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stimmen der relevanten Objektpunkte (mit Hilfe von Bounding Box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rojizieren dieser Punkte, um Bufferfläche zu generi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ufferkosmetik (Winkel, Schraffu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fferl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BD84-C15D-4AD7-8420-42C117000A07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939AA1-BDB3-4914-95D5-08BCEFFE474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660066"/>
                </a:solidFill>
                <a:latin typeface="AvantGarde Md BT"/>
              </a:rPr>
              <a:t>Bounding Boxes</a:t>
            </a:r>
            <a:endParaRPr b="0" lang="en-US" sz="3600" spc="-1" strike="noStrike">
              <a:solidFill>
                <a:srgbClr val="660066"/>
              </a:solidFill>
              <a:latin typeface="AvantGarde Md BT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n kleinstmögliches Rechteck, das ein Polygon vollständig beinhalt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Gibt es sichtweisenabhängig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intrinsisch, deiktisch, geo-glob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und sichtweisenunabhängig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fferl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4ABA-87C9-4776-B6C4-80B536482ED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FEB21A-AB54-4A32-87B0-55AA56A8D00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660066"/>
                </a:solidFill>
                <a:latin typeface="AvantGarde Md BT"/>
              </a:rPr>
              <a:t>Buffer-Parameter</a:t>
            </a:r>
            <a:endParaRPr b="0" lang="en-US" sz="3600" spc="-1" strike="noStrike">
              <a:solidFill>
                <a:srgbClr val="660066"/>
              </a:solidFill>
              <a:latin typeface="AvantGarde Md BT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as individuelle Aussehen der Buffer wird über Parameter gesteuert, die für jede Präposition einzeln angegeben werd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rzeugt eine Präposition mehrere Flächen (z.B. neben), so gibt es für jeden dieser Buffer einen eigenen Parametersat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fferl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EE85-4A6A-42BD-81F7-74F7E47B401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2B1390-CA09-4094-A89A-F3A4123A29A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660066"/>
                </a:solidFill>
                <a:latin typeface="AvantGarde Md BT"/>
              </a:rPr>
              <a:t>Buffer-Parameter im Detail</a:t>
            </a:r>
            <a:endParaRPr b="0" lang="en-US" sz="3800" spc="-1" strike="noStrike">
              <a:solidFill>
                <a:srgbClr val="660066"/>
              </a:solidFill>
              <a:latin typeface="AvantGarde Md BT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26560" y="2349360"/>
            <a:ext cx="409428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lächenty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ontak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ounding Box Se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levante Objekttiefe (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bstand der inneren und äußeren Linie vom Objekt (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usatz-Winkel (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raff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651640" y="2421000"/>
            <a:ext cx="3022560" cy="338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fferl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0F12-35BD-4315-82CD-1F575D05F89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43F24E-B772-415E-B8E2-247F3A60494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295560" y="305280"/>
            <a:ext cx="7834680" cy="6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660066"/>
                </a:solidFill>
                <a:latin typeface="AvantGarde Md BT"/>
              </a:rPr>
              <a:t>Präpositionsdatenbank Beispiel</a:t>
            </a:r>
            <a:endParaRPr b="0" lang="en-US" sz="3200" spc="-1" strike="noStrike">
              <a:solidFill>
                <a:srgbClr val="660066"/>
              </a:solidFill>
              <a:latin typeface="AvantGarde Md BT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26920" y="1125360"/>
            <a:ext cx="769320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&lt;preposition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&lt;name </a:t>
            </a: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id="16"</a:t>
            </a: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hinter</a:t>
            </a: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&lt;/nam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&lt;point_of_view </a:t>
            </a: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type="deictic"</a:t>
            </a: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 /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&lt;point_of_view </a:t>
            </a: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type="intrinsic" </a:t>
            </a: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/&gt;</a:t>
            </a: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&lt;prep_grammar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&lt;token&gt;</a:t>
            </a: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hinter</a:t>
            </a: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&lt;/token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&lt;syntax&gt;</a:t>
            </a: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*Mod *Mod Prep Art Noun</a:t>
            </a: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&lt;/syntax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&lt;part_of_speech&gt;</a:t>
            </a: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Prep</a:t>
            </a: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&lt;/part_of_speech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&lt;case&gt;</a:t>
            </a: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Dativ</a:t>
            </a: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&lt;/cas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&lt;combinations&gt;</a:t>
            </a: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links, rechts, oben, unten</a:t>
            </a: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&lt;/combinations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&lt;/prep_grammar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&lt;prep_buffer </a:t>
            </a: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multiple="no"</a:t>
            </a: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&lt;area </a:t>
            </a: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type="A"</a:t>
            </a: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 /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&lt;contact </a:t>
            </a: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type="no"</a:t>
            </a: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 /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&lt;bb_side </a:t>
            </a: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side="3"</a:t>
            </a: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 /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&lt;relevant_object_depth&gt;</a:t>
            </a: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50</a:t>
            </a: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&lt;/relevant_object_depth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&lt;inner_distance&gt;</a:t>
            </a: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&lt;/inner_distanc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&lt;outer_distance&gt;</a:t>
            </a: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90</a:t>
            </a: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&lt;/outer_distanc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&lt;angle </a:t>
            </a: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expand="no"</a:t>
            </a: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25</a:t>
            </a: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&lt;/angl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&lt;dyn_stat </a:t>
            </a: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type="static"</a:t>
            </a: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 /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&lt;coloring </a:t>
            </a: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intensity="even"</a:t>
            </a: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 /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&lt;/prep_buffer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&lt;/preposition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fferl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AC43-FADC-4F22-982E-D01F618D6A0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32A1F8-50DC-40A6-924A-C07AC7DA159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660066"/>
                </a:solidFill>
                <a:latin typeface="AvantGarde Md BT"/>
              </a:rPr>
              <a:t>Objektdatenbank (I)</a:t>
            </a:r>
            <a:endParaRPr b="0" lang="en-US" sz="3600" spc="-1" strike="noStrike">
              <a:solidFill>
                <a:srgbClr val="660066"/>
              </a:solidFill>
              <a:latin typeface="AvantGarde Md B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ammlung von geometrischen Objekten + Metada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etadaten beinhalt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Name, I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oint of 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artengrenz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fferl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16B6-DE43-4429-AFD4-CC20C998264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7C0FB3-82CC-4EC7-AE8A-D045A9FC219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660066"/>
                </a:solidFill>
                <a:latin typeface="AvantGarde Md BT"/>
              </a:rPr>
              <a:t>Objektdatenbank (II)</a:t>
            </a:r>
            <a:endParaRPr b="0" lang="en-US" sz="3600" spc="-1" strike="noStrike">
              <a:solidFill>
                <a:srgbClr val="660066"/>
              </a:solidFill>
              <a:latin typeface="AvantGarde Md BT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aten eines Objek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Name, 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Grammatikinformatio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emantische Informationen in Typ/Wert-Paa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oordina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icht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fferl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8CDA-79B1-462A-9C3B-AD388C91FD6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63273C-2079-4AE9-8314-D55676910B4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251640" y="-24408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660066"/>
                </a:solidFill>
                <a:latin typeface="AvantGarde Md BT"/>
              </a:rPr>
              <a:t>Objektdatenbank</a:t>
            </a:r>
            <a:r>
              <a:rPr b="0" lang="de-DE" sz="3600" spc="-1" strike="noStrike">
                <a:solidFill>
                  <a:srgbClr val="660066"/>
                </a:solidFill>
                <a:latin typeface="AvantGarde Md BT"/>
              </a:rPr>
              <a:t> </a:t>
            </a:r>
            <a:r>
              <a:rPr b="0" lang="de-DE" sz="3200" spc="-1" strike="noStrike">
                <a:solidFill>
                  <a:srgbClr val="660066"/>
                </a:solidFill>
                <a:latin typeface="AvantGarde Md BT"/>
              </a:rPr>
              <a:t>Beispiel</a:t>
            </a:r>
            <a:endParaRPr b="0" lang="en-US" sz="3200" spc="-1" strike="noStrike">
              <a:solidFill>
                <a:srgbClr val="660066"/>
              </a:solidFill>
              <a:latin typeface="AvantGarde Md BT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611280" y="1052280"/>
            <a:ext cx="7694640" cy="40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&lt;obj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&lt;obj_name id="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05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"&gt;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Triplex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&lt;/obj_name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&lt;kasus&gt;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Nominativ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&lt;/kasus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&lt;genus&gt;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Feminin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&lt;/genus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 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&lt;numerus&gt;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Singular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&lt;/numerus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 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&lt;semantics&gt;Typ =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Gebäude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&lt;/semantic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 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&lt;semantics&gt;Nutzung =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Öffentlich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&lt;/semantic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 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&lt;color&gt;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braun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&lt;/color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&lt;poi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 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&lt;point&gt;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275 800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&lt;/point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 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&lt;point&gt;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375 800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&lt;/point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 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&lt;point&gt;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375 950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&lt;/point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 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&lt;point&gt;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275 950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&lt;/point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 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&lt;/poi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&lt;direction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&lt;poi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 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&lt;point&gt;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275 875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&lt;/point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 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&lt;point&gt;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340 875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&lt;/point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 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&lt;/poi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 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&lt;/direction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&lt;/obj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fferl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2EEF-FD7A-41FB-BAB4-C890922F66D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6EBB6B-D854-42A6-B63D-7249F892991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660066"/>
                </a:solidFill>
                <a:latin typeface="AvantGarde Md BT"/>
              </a:rPr>
              <a:t>Inhalt</a:t>
            </a:r>
            <a:endParaRPr b="0" lang="en-US" sz="3600" spc="-1" strike="noStrike">
              <a:solidFill>
                <a:srgbClr val="660066"/>
              </a:solidFill>
              <a:latin typeface="AvantGarde Md BT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b2b2b2"/>
                </a:solidFill>
                <a:latin typeface="Arial"/>
              </a:rPr>
              <a:t>Linguistische Vorüberleg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c0c0c0"/>
                </a:solidFill>
                <a:latin typeface="Arial"/>
              </a:rPr>
              <a:t>Funktionsweise von Buffer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rogrammde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c0c0c0"/>
                </a:solidFill>
                <a:latin typeface="Arial"/>
              </a:rPr>
              <a:t>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fferl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FCA6-A3C1-4D98-922E-27A294258DB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7D436B-1CBF-4D83-932C-A37797ABDC3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660066"/>
                </a:solidFill>
                <a:latin typeface="AvantGarde Md BT"/>
              </a:rPr>
              <a:t>Inhalt</a:t>
            </a:r>
            <a:endParaRPr b="0" lang="en-US" sz="3600" spc="-1" strike="noStrike">
              <a:solidFill>
                <a:srgbClr val="660066"/>
              </a:solidFill>
              <a:latin typeface="AvantGarde Md B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inguistische Vorüberleg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unktionsweise von Buffer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rogrammde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fferl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4C39-C181-486D-BA5D-5B3334318EA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6AF0DF-7243-4114-A14E-465AD601D57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c0c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" dur="2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c0c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2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c0c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>
            <a:lum contrast="-10000"/>
          </a:blip>
          <a:stretch/>
        </p:blipFill>
        <p:spPr>
          <a:xfrm>
            <a:off x="3132000" y="2349360"/>
            <a:ext cx="3567240" cy="38894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660066"/>
                </a:solidFill>
                <a:latin typeface="AvantGarde Md BT"/>
              </a:rPr>
              <a:t>Begriffliches</a:t>
            </a:r>
            <a:endParaRPr b="0" lang="en-US" sz="3600" spc="-1" strike="noStrike">
              <a:solidFill>
                <a:srgbClr val="660066"/>
              </a:solidFill>
              <a:latin typeface="AvantGarde Md BT"/>
            </a:endParaRPr>
          </a:p>
        </p:txBody>
      </p:sp>
      <p:sp>
        <p:nvSpPr>
          <p:cNvPr id="144" name=""/>
          <p:cNvSpPr/>
          <p:nvPr/>
        </p:nvSpPr>
        <p:spPr>
          <a:xfrm>
            <a:off x="6994440" y="3789360"/>
            <a:ext cx="215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Bounding Box</a:t>
            </a:r>
            <a:br>
              <a:rPr sz="1800"/>
            </a:br>
            <a:r>
              <a:rPr b="0" lang="de-DE" sz="1400" spc="-1" strike="noStrike">
                <a:solidFill>
                  <a:srgbClr val="003366"/>
                </a:solidFill>
                <a:latin typeface="Arial"/>
              </a:rPr>
              <a:t>(sichtweisenunabhängig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956280" y="2492280"/>
            <a:ext cx="218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Gültigkeitsbereich / </a:t>
            </a:r>
            <a:br>
              <a:rPr sz="1800"/>
            </a:b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Buff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29440" y="537372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Objekt/ Polyg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27280" y="5589720"/>
            <a:ext cx="165564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5579640" y="2852640"/>
            <a:ext cx="1368360" cy="10080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30160" y="450864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Richtungsvekt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627280" y="4724280"/>
            <a:ext cx="2305080" cy="4334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192080" y="4941720"/>
            <a:ext cx="195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Bounding Box</a:t>
            </a:r>
            <a:br>
              <a:rPr sz="1800"/>
            </a:br>
            <a:r>
              <a:rPr b="0" lang="de-DE" sz="1400" spc="-1" strike="noStrike">
                <a:solidFill>
                  <a:srgbClr val="003366"/>
                </a:solidFill>
                <a:latin typeface="Arial"/>
              </a:rPr>
              <a:t>(sichtweisenabhängig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6443280" y="4076640"/>
            <a:ext cx="576360" cy="5047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6516720" y="5157720"/>
            <a:ext cx="719280" cy="2872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405440" y="256536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Betracht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2700360" y="2636640"/>
            <a:ext cx="1655640" cy="1443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fferl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D765-BBE2-4187-A97F-D048AC97A94E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9C9486-9653-4394-AB6E-AE710A633FB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660066"/>
                </a:solidFill>
                <a:latin typeface="AvantGarde Md BT"/>
              </a:rPr>
              <a:t>Inhalt</a:t>
            </a:r>
            <a:endParaRPr b="0" lang="en-US" sz="3600" spc="-1" strike="noStrike">
              <a:solidFill>
                <a:srgbClr val="660066"/>
              </a:solidFill>
              <a:latin typeface="AvantGarde Md BT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b2b2b2"/>
                </a:solidFill>
                <a:latin typeface="Arial"/>
              </a:rPr>
              <a:t>Linguistische Vorüberleg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c0c0c0"/>
                </a:solidFill>
                <a:latin typeface="Arial"/>
              </a:rPr>
              <a:t>Funktionsweise von Buffer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c0c0c0"/>
                </a:solidFill>
                <a:latin typeface="Arial"/>
              </a:rPr>
              <a:t>Programmde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fferl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9164-9B6B-401B-89CA-9ECDC95116B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59712A-0B08-49E3-B0C3-ADC2EB8815F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660066"/>
                </a:solidFill>
                <a:latin typeface="AvantGarde Md BT"/>
              </a:rPr>
              <a:t>Implementierte Präpositionen</a:t>
            </a:r>
            <a:endParaRPr b="0" lang="en-US" sz="3200" spc="-1" strike="noStrike">
              <a:solidFill>
                <a:srgbClr val="660066"/>
              </a:solidFill>
              <a:latin typeface="AvantGarde Md BT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yp A, statisc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or, hi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inks, rech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neb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nördlich, südlich, westlich, östl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roblemfall: 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fferl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50E6-5EE8-441A-8D1C-0FEADE5FCCDE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C468CE-ECD7-494C-90BA-D32B94D33AE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660066"/>
                </a:solidFill>
                <a:latin typeface="AvantGarde Md BT"/>
              </a:rPr>
              <a:t>Nicht erreichte Ziele</a:t>
            </a:r>
            <a:endParaRPr b="0" lang="en-US" sz="3600" spc="-1" strike="noStrike">
              <a:solidFill>
                <a:srgbClr val="660066"/>
              </a:solidFill>
              <a:latin typeface="AvantGarde Md BT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Geltungsbereiche von Präpositionen sollten ihre Intensität veränd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Gewichtung von Objek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estliche statische Präpositio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ynamische Präpositio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ür Lokalisation: Größenverhältnisse zwischen LO und 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fferl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0E0B-59F8-4C9A-BC59-B1B454A8E164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863E54-68E7-4294-A3FA-9F1662F4F322}" type="datetime1">
              <a:rPr lang="en-US"/>
              <a:t>07/29/26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660066"/>
                </a:solidFill>
                <a:latin typeface="AvantGarde Md BT"/>
              </a:rPr>
              <a:t>Problematische Ansätze</a:t>
            </a:r>
            <a:endParaRPr b="0" lang="en-US" sz="3600" spc="-1" strike="noStrike">
              <a:solidFill>
                <a:srgbClr val="660066"/>
              </a:solidFill>
              <a:latin typeface="AvantGarde Md BT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ichtungspfe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ufferwink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efault-BB bei deiktischen Buff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Himmelsricht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geschlossene Linienzü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fferl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A1B3-D092-4DDA-A41F-1EBB6B5000A9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F14259-BF88-4F06-B8FE-513D742388D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660066"/>
                </a:solidFill>
                <a:latin typeface="AvantGarde Md BT"/>
              </a:rPr>
              <a:t>Nice to have...</a:t>
            </a:r>
            <a:endParaRPr b="0" lang="en-US" sz="3600" spc="-1" strike="noStrike">
              <a:solidFill>
                <a:srgbClr val="660066"/>
              </a:solidFill>
              <a:latin typeface="AvantGarde Md BT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10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räpositionseditor in der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10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sserer Präpositionspar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10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XML-Schemas für die Datenban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fferl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5AB4-2441-4AF0-B89B-76DC956E2E5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7DD234-1CB7-42AE-B3FE-1D83C42585B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660066"/>
                </a:solidFill>
                <a:latin typeface="AvantGarde Md BT"/>
              </a:rPr>
              <a:t>The End</a:t>
            </a:r>
            <a:endParaRPr b="0" lang="en-US" sz="3600" spc="-1" strike="noStrike">
              <a:solidFill>
                <a:srgbClr val="660066"/>
              </a:solidFill>
              <a:latin typeface="AvantGarde Md BT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eitere Informationen, Präsentationen und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nutzeranleitung un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ttp://wiki.cl.uni-heidelberg.de/moin.cgi/ProjektPr_e4positi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ielen Dank für Eure Aufmerksamkeit :-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tienne und Tho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fferl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C244-1C5C-4952-8140-C7E3494269C2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927F5E-9A4C-4BAC-8288-2B2CB02685C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660066"/>
                </a:solidFill>
                <a:latin typeface="AvantGarde Md BT"/>
              </a:rPr>
              <a:t>Anhang…</a:t>
            </a:r>
            <a:endParaRPr b="0" lang="en-US" sz="3600" spc="-1" strike="noStrike">
              <a:solidFill>
                <a:srgbClr val="660066"/>
              </a:solidFill>
              <a:latin typeface="AvantGarde Md B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fferl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3F99-7F75-4134-B31F-8758BD2159FD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38EBCB-5F97-446F-801B-332EDDA7B67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4500720" y="765000"/>
            <a:ext cx="4464000" cy="4969080"/>
          </a:xfrm>
          <a:prstGeom prst="rect">
            <a:avLst/>
          </a:prstGeom>
          <a:solidFill>
            <a:srgbClr val="99cc00"/>
          </a:solidFill>
          <a:ln w="0">
            <a:noFill/>
          </a:ln>
          <a:effectLst>
            <a:outerShdw dist="107932" dir="2700000" blurRad="0" rotWithShape="0">
              <a:srgbClr val="66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50920" y="3141720"/>
            <a:ext cx="3816360" cy="1800000"/>
          </a:xfrm>
          <a:prstGeom prst="rect">
            <a:avLst/>
          </a:prstGeom>
          <a:solidFill>
            <a:srgbClr val="ff6600"/>
          </a:solidFill>
          <a:ln w="0">
            <a:noFill/>
          </a:ln>
          <a:effectLst>
            <a:outerShdw dist="107932" dir="2700000" blurRad="0" rotWithShape="0">
              <a:srgbClr val="66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692360" y="765000"/>
            <a:ext cx="2374920" cy="1872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07932" dir="2700000" blurRad="0" rotWithShape="0">
              <a:srgbClr val="66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1763640" y="5734080"/>
            <a:ext cx="1224000" cy="863640"/>
            <a:chOff x="1763640" y="5734080"/>
            <a:chExt cx="1224000" cy="863640"/>
          </a:xfrm>
        </p:grpSpPr>
        <p:sp>
          <p:nvSpPr>
            <p:cNvPr id="173" name=""/>
            <p:cNvSpPr/>
            <p:nvPr/>
          </p:nvSpPr>
          <p:spPr>
            <a:xfrm>
              <a:off x="1763640" y="5734080"/>
              <a:ext cx="1224000" cy="86364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  <a:effectLst>
              <a:outerShdw dist="107932" dir="2700000" blurRad="0" rotWithShape="0">
                <a:srgbClr val="66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981800" y="5878800"/>
              <a:ext cx="788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berro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btools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4932360" y="4005360"/>
            <a:ext cx="2016000" cy="1511280"/>
          </a:xfrm>
          <a:prstGeom prst="rect">
            <a:avLst/>
          </a:prstGeom>
          <a:solidFill>
            <a:srgbClr val="00ff00"/>
          </a:solidFill>
          <a:ln w="0">
            <a:noFill/>
          </a:ln>
          <a:effectLst>
            <a:outerShdw dist="107932" dir="2700000" blurRad="0" rotWithShape="0">
              <a:srgbClr val="66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007600" y="4076640"/>
            <a:ext cx="157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epcontain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583240" y="465120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eposi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582520" y="515628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odifi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4932360" y="1952640"/>
            <a:ext cx="2016000" cy="1511280"/>
            <a:chOff x="4932360" y="1952640"/>
            <a:chExt cx="2016000" cy="1511280"/>
          </a:xfrm>
        </p:grpSpPr>
        <p:sp>
          <p:nvSpPr>
            <p:cNvPr id="180" name=""/>
            <p:cNvSpPr/>
            <p:nvPr/>
          </p:nvSpPr>
          <p:spPr>
            <a:xfrm>
              <a:off x="4932360" y="1952640"/>
              <a:ext cx="2016000" cy="15112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  <a:effectLst>
              <a:outerShdw dist="107932" dir="2700000" blurRad="0" rotWithShape="0">
                <a:srgbClr val="66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5006520" y="2168280"/>
              <a:ext cx="1744920" cy="871560"/>
              <a:chOff x="5006520" y="2168280"/>
              <a:chExt cx="1744920" cy="871560"/>
            </a:xfrm>
          </p:grpSpPr>
          <p:sp>
            <p:nvSpPr>
              <p:cNvPr id="182" name=""/>
              <p:cNvSpPr/>
              <p:nvPr/>
            </p:nvSpPr>
            <p:spPr>
              <a:xfrm>
                <a:off x="5006520" y="2168280"/>
                <a:ext cx="1003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geomap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583240" y="2671560"/>
                <a:ext cx="1168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geoobject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184" name=""/>
          <p:cNvGrpSpPr/>
          <p:nvPr/>
        </p:nvGrpSpPr>
        <p:grpSpPr>
          <a:xfrm>
            <a:off x="4932360" y="836640"/>
            <a:ext cx="863640" cy="576360"/>
            <a:chOff x="4932360" y="836640"/>
            <a:chExt cx="863640" cy="576360"/>
          </a:xfrm>
        </p:grpSpPr>
        <p:sp>
          <p:nvSpPr>
            <p:cNvPr id="185" name=""/>
            <p:cNvSpPr/>
            <p:nvPr/>
          </p:nvSpPr>
          <p:spPr>
            <a:xfrm>
              <a:off x="4932360" y="836640"/>
              <a:ext cx="863640" cy="57636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  <a:effectLst>
              <a:outerShdw dist="107932" dir="2700000" blurRad="0" rotWithShape="0">
                <a:srgbClr val="66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005800" y="907920"/>
              <a:ext cx="70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gram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7524720" y="2924280"/>
            <a:ext cx="1295280" cy="865080"/>
          </a:xfrm>
          <a:prstGeom prst="rect">
            <a:avLst/>
          </a:prstGeom>
          <a:solidFill>
            <a:srgbClr val="33cccc"/>
          </a:solidFill>
          <a:ln w="0">
            <a:noFill/>
          </a:ln>
          <a:effectLst>
            <a:outerShdw dist="107932" dir="2700000" blurRad="0" rotWithShape="0">
              <a:srgbClr val="66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308720" y="1484280"/>
            <a:ext cx="1511280" cy="86508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07932" dir="2700000" blurRad="0" rotWithShape="0">
              <a:srgbClr val="66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7527960" y="2924280"/>
            <a:ext cx="1269360" cy="801720"/>
            <a:chOff x="7527960" y="2924280"/>
            <a:chExt cx="1269360" cy="801720"/>
          </a:xfrm>
        </p:grpSpPr>
        <p:sp>
          <p:nvSpPr>
            <p:cNvPr id="190" name=""/>
            <p:cNvSpPr/>
            <p:nvPr/>
          </p:nvSpPr>
          <p:spPr>
            <a:xfrm>
              <a:off x="7527960" y="2924280"/>
              <a:ext cx="1256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maploade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528320" y="3357720"/>
              <a:ext cx="126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preploade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7312680" y="170028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tenbanke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5280" y="3284640"/>
            <a:ext cx="1297080" cy="1368360"/>
          </a:xfrm>
          <a:prstGeom prst="rect">
            <a:avLst/>
          </a:prstGeom>
          <a:solidFill>
            <a:srgbClr val="ff6969"/>
          </a:solidFill>
          <a:ln w="0">
            <a:noFill/>
          </a:ln>
          <a:effectLst>
            <a:outerShdw dist="107932" dir="2700000" blurRad="0" rotWithShape="0">
              <a:srgbClr val="66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70520" y="407664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eomet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902520" y="35002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box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050920" y="3429000"/>
            <a:ext cx="1297080" cy="107964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66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195640" y="37162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ufferl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835280" y="981000"/>
            <a:ext cx="649080" cy="4320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66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837440" y="9810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ta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763640" y="5732640"/>
            <a:ext cx="1224000" cy="863280"/>
          </a:xfrm>
          <a:prstGeom prst="rect">
            <a:avLst/>
          </a:prstGeom>
          <a:solidFill>
            <a:srgbClr val="6699ff"/>
          </a:solidFill>
          <a:ln w="0">
            <a:noFill/>
          </a:ln>
          <a:effectLst>
            <a:outerShdw dist="107932" dir="2700000" blurRad="0" rotWithShape="0">
              <a:srgbClr val="66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837800" y="5734080"/>
            <a:ext cx="78876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rr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tool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620720" y="5446800"/>
            <a:ext cx="1582920" cy="215640"/>
            <a:chOff x="1620720" y="5446800"/>
            <a:chExt cx="1582920" cy="215640"/>
          </a:xfrm>
        </p:grpSpPr>
        <p:sp>
          <p:nvSpPr>
            <p:cNvPr id="203" name=""/>
            <p:cNvSpPr/>
            <p:nvPr/>
          </p:nvSpPr>
          <p:spPr>
            <a:xfrm>
              <a:off x="1620720" y="5446800"/>
              <a:ext cx="216000" cy="2156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052720" y="5446800"/>
              <a:ext cx="71280" cy="2156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410920" y="5446800"/>
              <a:ext cx="1800" cy="2156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2700360" y="5446800"/>
              <a:ext cx="71280" cy="2156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2987640" y="5446800"/>
              <a:ext cx="216000" cy="2156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08" name=""/>
          <p:cNvSpPr/>
          <p:nvPr/>
        </p:nvSpPr>
        <p:spPr>
          <a:xfrm flipV="1">
            <a:off x="3132000" y="2741400"/>
            <a:ext cx="0" cy="3603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916360" y="2741760"/>
            <a:ext cx="0" cy="3603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619280" y="3716280"/>
            <a:ext cx="576360" cy="1443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1619280" y="4005360"/>
            <a:ext cx="576360" cy="2872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2268360" y="1484280"/>
            <a:ext cx="0" cy="216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2050560" y="1484280"/>
            <a:ext cx="1800" cy="216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867280" y="1125360"/>
            <a:ext cx="2305080" cy="287640"/>
          </a:xfrm>
          <a:custGeom>
            <a:avLst/>
            <a:gdLst/>
            <a:ahLst/>
            <a:rect l="l" t="t" r="r" b="b"/>
            <a:pathLst>
              <a:path w="1452" h="136">
                <a:moveTo>
                  <a:pt x="0" y="0"/>
                </a:moveTo>
                <a:lnTo>
                  <a:pt x="1407" y="0"/>
                </a:lnTo>
                <a:lnTo>
                  <a:pt x="1452" y="136"/>
                </a:lnTo>
              </a:path>
            </a:pathLst>
          </a:custGeom>
          <a:noFill/>
          <a:ln w="2232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2411280" y="1125000"/>
            <a:ext cx="2592360" cy="716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411280" y="1341360"/>
            <a:ext cx="2808360" cy="28083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411280" y="1268280"/>
            <a:ext cx="2737080" cy="9367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203640" y="3933720"/>
            <a:ext cx="1800000" cy="2872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3203640" y="2565360"/>
            <a:ext cx="1944720" cy="12952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835280" y="1773360"/>
            <a:ext cx="1970640" cy="718920"/>
            <a:chOff x="1835280" y="1773360"/>
            <a:chExt cx="1970640" cy="718920"/>
          </a:xfrm>
        </p:grpSpPr>
        <p:sp>
          <p:nvSpPr>
            <p:cNvPr id="221" name=""/>
            <p:cNvSpPr/>
            <p:nvPr/>
          </p:nvSpPr>
          <p:spPr>
            <a:xfrm>
              <a:off x="1835280" y="1773360"/>
              <a:ext cx="1944720" cy="7189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  <a:effectLst>
              <a:outerShdw dist="107932" dir="2700000" blurRad="0" rotWithShape="0">
                <a:srgbClr val="66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839240" y="1773360"/>
              <a:ext cx="1966680" cy="642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bgui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(Kommandozeile)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2411280" y="1989000"/>
            <a:ext cx="2592360" cy="3603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364000" y="4365720"/>
            <a:ext cx="216000" cy="863640"/>
          </a:xfrm>
          <a:custGeom>
            <a:avLst/>
            <a:gdLst/>
            <a:ahLst/>
            <a:rect l="l" t="t" r="r" b="b"/>
            <a:pathLst>
              <a:path w="136" h="499">
                <a:moveTo>
                  <a:pt x="0" y="0"/>
                </a:moveTo>
                <a:lnTo>
                  <a:pt x="0" y="363"/>
                </a:lnTo>
                <a:lnTo>
                  <a:pt x="136" y="499"/>
                </a:lnTo>
              </a:path>
            </a:pathLst>
          </a:custGeom>
          <a:noFill/>
          <a:ln w="22320">
            <a:solidFill>
              <a:srgbClr val="000000"/>
            </a:solidFill>
            <a:round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059640" y="5661000"/>
            <a:ext cx="250200" cy="971640"/>
            <a:chOff x="3059640" y="5661000"/>
            <a:chExt cx="250200" cy="971640"/>
          </a:xfrm>
        </p:grpSpPr>
        <p:sp>
          <p:nvSpPr>
            <p:cNvPr id="226" name=""/>
            <p:cNvSpPr/>
            <p:nvPr/>
          </p:nvSpPr>
          <p:spPr>
            <a:xfrm flipH="1">
              <a:off x="3059640" y="5661000"/>
              <a:ext cx="250200" cy="1324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3059640" y="5925960"/>
              <a:ext cx="250200" cy="435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 flipV="1">
              <a:off x="3059640" y="6145920"/>
              <a:ext cx="250200" cy="10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 flipV="1">
              <a:off x="3059640" y="6323400"/>
              <a:ext cx="250200" cy="435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 flipV="1">
              <a:off x="3059640" y="6500160"/>
              <a:ext cx="250200" cy="1324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5940360" y="2349360"/>
            <a:ext cx="1656000" cy="648000"/>
          </a:xfrm>
          <a:custGeom>
            <a:avLst/>
            <a:gdLst/>
            <a:ahLst/>
            <a:rect l="l" t="t" r="r" b="b"/>
            <a:pathLst>
              <a:path w="1043" h="408">
                <a:moveTo>
                  <a:pt x="0" y="0"/>
                </a:moveTo>
                <a:lnTo>
                  <a:pt x="726" y="0"/>
                </a:lnTo>
                <a:lnTo>
                  <a:pt x="1043" y="408"/>
                </a:lnTo>
              </a:path>
            </a:pathLst>
          </a:custGeom>
          <a:noFill/>
          <a:ln w="22320">
            <a:solidFill>
              <a:srgbClr val="000000"/>
            </a:solidFill>
            <a:round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516720" y="3716280"/>
            <a:ext cx="1079640" cy="576360"/>
          </a:xfrm>
          <a:custGeom>
            <a:avLst/>
            <a:gdLst/>
            <a:ahLst/>
            <a:rect l="l" t="t" r="r" b="b"/>
            <a:pathLst>
              <a:path w="680" h="363">
                <a:moveTo>
                  <a:pt x="0" y="363"/>
                </a:moveTo>
                <a:lnTo>
                  <a:pt x="408" y="363"/>
                </a:lnTo>
                <a:lnTo>
                  <a:pt x="680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724360" y="2492280"/>
            <a:ext cx="0" cy="216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796000" y="4437000"/>
            <a:ext cx="0" cy="2872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244000" y="2349360"/>
            <a:ext cx="0" cy="574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244720" y="5373720"/>
            <a:ext cx="67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Date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268720" y="6308640"/>
            <a:ext cx="65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843280" y="4581360"/>
            <a:ext cx="121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Berechnun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132360" y="765000"/>
            <a:ext cx="87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Eingab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fferl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214D-59BD-4F2B-A85F-CED54E5B93F3}" type="slidenum">
              <a:t>2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370D76-6710-415D-B529-F15501D47C9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660066"/>
                </a:solidFill>
                <a:latin typeface="AvantGarde Md BT"/>
              </a:rPr>
              <a:t>Bufferlo</a:t>
            </a:r>
            <a:br>
              <a:rPr sz="4000"/>
            </a:br>
            <a:r>
              <a:rPr b="1" lang="de-DE" sz="2400" spc="-1" strike="noStrike">
                <a:solidFill>
                  <a:srgbClr val="660066"/>
                </a:solidFill>
                <a:latin typeface="AvantGarde Md BT"/>
              </a:rPr>
              <a:t>Tool zur Beschreibung von Raumausdrücken</a:t>
            </a:r>
            <a:endParaRPr b="0" lang="en-US" sz="2400" spc="-1" strike="noStrike">
              <a:solidFill>
                <a:srgbClr val="660066"/>
              </a:solidFill>
              <a:latin typeface="AvantGarde Md BT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gangside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aumausdrücke erzeugen Fläc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gramm soll Flächen an geometrisch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bjekten erzeugen, die diese Raumausdrück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präsentier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fferl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7037-CC60-4B95-BDB8-1DC10A85960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E49865-462F-4D3D-AF6D-4A1E58DA024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660066"/>
                </a:solidFill>
                <a:latin typeface="AvantGarde Md BT"/>
              </a:rPr>
              <a:t>Einteilung der Präpositionen</a:t>
            </a:r>
            <a:endParaRPr b="0" lang="en-US" sz="3800" spc="-1" strike="noStrike">
              <a:solidFill>
                <a:srgbClr val="660066"/>
              </a:solidFill>
              <a:latin typeface="AvantGarde Md BT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ynamis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n...entlang, auf (Akk.), auf...zu, aus...heraus, durch, entlang, herauf, herunter, hinunter, hinauf, in (Akk.), über (Akk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tatis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n, auf (Dat.), außerhalb, bei, gegenüber, im Zentrum, in (Dat.), in der Mitte, innerhalb, links, nahe, neben, nördlich, westlich, südlich, östlich, über (Dat.), um...herum, unter, unterhalb, vor, zwisc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fferl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558E-CE2B-426F-9C5F-B1F5FEB8FCE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284CAB-765B-4F8E-B798-3BDD06128E3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660066"/>
                </a:solidFill>
                <a:latin typeface="AvantGarde Md BT"/>
              </a:rPr>
              <a:t>Unterschiedliche Sichtweisen</a:t>
            </a:r>
            <a:endParaRPr b="0" lang="en-US" sz="3400" spc="-1" strike="noStrike">
              <a:solidFill>
                <a:srgbClr val="660066"/>
              </a:solidFill>
              <a:latin typeface="AvantGarde Md BT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Nur bei statischen Präposition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eiktisch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ntrinsis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Geo-glob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iele Präpositionen (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links, vor, neben, …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) erlauben sowohl eine deiktische als auch intrinsische Sichtwei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fferl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BF67-ECB9-471B-9E32-FA69F40F977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E22010-FCF3-4E4F-967A-5F79A902487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660066"/>
                </a:solidFill>
                <a:latin typeface="AvantGarde Md BT"/>
              </a:rPr>
              <a:t>Modifikatoren</a:t>
            </a:r>
            <a:endParaRPr b="0" lang="en-US" sz="3800" spc="-1" strike="noStrike">
              <a:solidFill>
                <a:srgbClr val="660066"/>
              </a:solidFill>
              <a:latin typeface="AvantGarde Md BT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8375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 Modifikator schränkt den Geltungsbereich einer Präposition e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f der horizontalen Achse: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links, rec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f der vertikalen Achse: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oben, u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f der Tiefenachse: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hinten, vorn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schrä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recht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können auch als eigenständige Präpositionen verwendet werd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fferl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775B-5A44-4206-B0E2-1A7DA4D8C58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CE65FD-2E81-4C35-9A24-10A1611F8AC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660066"/>
                </a:solidFill>
                <a:latin typeface="AvantGarde Md BT"/>
              </a:rPr>
              <a:t>Aufteilung der Präps in Flächentypen</a:t>
            </a:r>
            <a:endParaRPr b="0" lang="en-US" sz="3200" spc="-1" strike="noStrike">
              <a:solidFill>
                <a:srgbClr val="660066"/>
              </a:solidFill>
              <a:latin typeface="AvantGarde Md BT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0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: Fläche(n) an einem Objekt (z.B.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nebe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: Fläche zwischen zwei Objekten (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zwische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: Ringfläche (z.B.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bei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: Fläche innerhalb von Objektgrenzen (z.B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: Linie (z.B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auf 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n Seitenansich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ombinationen: z.B.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durch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DA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fferl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A00F-CF8D-4DF0-AD32-6FD2FC90CF7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B76A74-E500-48C2-A78D-E541B697F71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660066"/>
                </a:solidFill>
                <a:latin typeface="AvantGarde Md BT"/>
              </a:rPr>
              <a:t>Inhalt</a:t>
            </a:r>
            <a:endParaRPr b="0" lang="en-US" sz="3600" spc="-1" strike="noStrike">
              <a:solidFill>
                <a:srgbClr val="660066"/>
              </a:solidFill>
              <a:latin typeface="AvantGarde Md BT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b2b2b2"/>
                </a:solidFill>
                <a:latin typeface="Arial"/>
              </a:rPr>
              <a:t>Linguistische Vorüberleg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unktionsweise von Buffer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c0c0c0"/>
                </a:solidFill>
                <a:latin typeface="Arial"/>
              </a:rPr>
              <a:t>Programmde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c0c0c0"/>
                </a:solidFill>
                <a:latin typeface="Arial"/>
              </a:rPr>
              <a:t>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fferl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3427-A373-4C6C-91C1-DDE24A750C9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BD0BB6-CC7E-40EC-8176-483D7BC5D17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480" y="834120"/>
            <a:ext cx="79862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660066"/>
                </a:solidFill>
                <a:latin typeface="AvantGarde Md BT"/>
              </a:rPr>
              <a:t>Datenquellen</a:t>
            </a:r>
            <a:endParaRPr b="0" lang="en-US" sz="3600" spc="-1" strike="noStrike">
              <a:solidFill>
                <a:srgbClr val="660066"/>
              </a:solidFill>
              <a:latin typeface="AvantGarde Md BT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nötigt werden folgende Datenquell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räpositionsdatenba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Objektdatenba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m Augenblick werden XML-Dateien verwendet, Bufferlo ist jedoch format-unabhäng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fferl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F378-1BBE-4330-8BD8-DBA5F608F01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4F5683-DFDA-4251-B5C5-434EF7030FE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9T15:37:44Z</dcterms:created>
  <dc:creator>Suzanne</dc:creator>
  <dc:description/>
  <dc:language>en-US</dc:language>
  <cp:lastModifiedBy>Thorsten Reichelt</cp:lastModifiedBy>
  <dcterms:modified xsi:type="dcterms:W3CDTF">2003-11-12T14:16:52Z</dcterms:modified>
  <cp:revision>72</cp:revision>
  <dc:subject/>
  <dc:title>Bufferlo</dc:title>
</cp:coreProperties>
</file>